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070-1260-47F0-84F1-7B78098D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2EB-21AE-43F4-A0A5-6C5543D8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935-C4E8-4FF2-B7F6-737B576C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62A-E8DC-4959-A0E9-7E98F1CF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84E4-F878-43DD-9933-51879BDB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00B8-0CF3-42F0-BEBC-4898C9D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55B4-6760-4984-8B19-0E4A68EA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730E-339E-417B-BE92-1727C07D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601-59ED-4D7E-8249-03F578FF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139E-2CAB-4913-8C37-13F88B5C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5720-D053-4289-AAB7-68A4967C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1D4-065A-49CA-BA0B-336CDE9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6649-E239-4370-A400-D870322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A6A7-6134-4DB6-A8AC-CF12A68C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E70E-1695-4BBD-971E-8168329F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2572-527E-411A-9A6F-69C2E58F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722E-761A-4D58-8954-D45590F3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F76E-D11F-4C73-908D-F8BE1860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D634-F41B-4A26-B384-C45AEB28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CF0F-C86A-48BD-AC24-17D13F32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E06E-4888-458E-8A38-4E277501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3EC3C-223D-4577-8DF1-CBD0D272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E6E-422C-4C21-A163-242F8CB5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848B-378C-4D74-A030-9441E926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73AD-E70E-4910-AFD0-568A42C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5230A-60B5-431B-B176-1CF2866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2C58-9F14-4BC7-9399-D3D10084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B27B-890F-438B-9056-9C53464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5B64-ABED-4442-8202-46D30E48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1E57-F28C-4C5A-A376-51FD0817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497F-E7A2-4870-912C-F7B0A344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D8DE8-6E62-4046-94A9-81D32301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D288-D5D5-4E4F-A33D-942D08F1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8F8-C58B-41AC-82B5-27CF8BED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0C87-DE62-41D6-B34A-A3A6D3C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47F6-BF1B-40BA-831B-0194A84F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A33E-FF5C-46E2-A31C-D92F990E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29107-5D5A-4896-8AFA-4E8A2D9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7A8E-FE36-4D69-A54A-B27970C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29AC-C51E-4953-AC96-5857DFF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7E483-348B-4F2E-B10A-90121B27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1366C-80F8-4B05-969B-2F0D9EBA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03C3-28C2-46D4-A44C-E1B5AFE6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A0E8-E002-4B8C-8AFD-4DA6D749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27B-F511-4B5B-A1AA-2949E079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66DCA-FB2F-4993-846A-9020EBFC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A682C-8EF2-4C17-8BF0-812E8FCE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07A6-EA7F-4677-A003-20971D51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26F13-B463-41B1-A338-7E49070D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7527-0719-4D58-A070-A9EFE681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C4EC-AA87-4BBC-9083-7C64604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C3908-5B49-41B1-BEE8-AF94B644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11B99-EC6E-44C9-96CE-71B109E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2335-A09F-4F46-B531-2C6502EA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4F32-B883-49D3-B757-DC552648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5C5-49EB-4C9B-80AD-E5357D1C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4FA22-93F7-40E4-8D5D-D5BD937E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562-93DE-45DF-B0ED-6D81F789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6BB-55D2-41E5-A376-F7205201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78C-6807-467C-9790-9B4E9BC3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D197-98A6-4CD6-AE44-AB3A003C6D6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5A5-83AF-4409-85E2-08A485F4AF3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E187-347F-4138-AE79-03B8E726579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3D2C-2E62-419B-86F4-68E64494C58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F12-6C86-46E9-B2FF-00228B676CB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RESENTATION SKILL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Computer Applications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ye Contac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eye contact with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good posture (stand stra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hands appropriately (do not touch face, hair, or jewelry with hand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good body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read from the sl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ake your tim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rush through the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ime to smile at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use for a few seconds between sl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tend you are having a conversation across the kitchen 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hears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your presentation before you present to the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sure you know what to s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note cards to help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read from the sl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Voi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ak loudly and clearly and project your vo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mum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ak slow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Ask for Ques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the audience if they have any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ask during the presentation as well as at the end of the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the audience for liste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3:48:46Z</dcterms:created>
  <dc:creator>image</dc:creator>
  <dc:description/>
  <dc:language>en-US</dc:language>
  <cp:lastModifiedBy>image</cp:lastModifiedBy>
  <dcterms:modified xsi:type="dcterms:W3CDTF">2012-11-26T18:02:42Z</dcterms:modified>
  <cp:revision>1</cp:revision>
  <dc:subject/>
  <dc:title>PRESENTATION SKILLS</dc:title>
</cp:coreProperties>
</file>